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400-2B81-465E-BA42-27852946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9794-4E33-4B2B-B416-4984FD1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2B-9058-4FD6-8BA6-AD81042D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3EB-AAA7-42CA-B427-97330877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158-323C-4FD6-9C2F-26D8E10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382-6004-49A5-9B47-FF4FD6C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C45-9546-49F6-A9A8-1F96717F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FAA-1145-459B-9090-4F9203FF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EE8-02F1-45F1-88CC-7CCC8103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B18-08AC-449D-99E5-172E193B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BD2-988C-477C-B165-BC479360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D93-1A36-48BF-96C1-7EF4F247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E64C-C780-4FA6-B944-AF05DFDD4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feguard_jumping_into_action,_Ocean_City,_June_27_,2007.jp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RedYellowFlag.jpg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unsmart.com.au/browse.asp?ContainerID=1534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dYellowFlag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86600">
            <a:off x="2340000" y="691920"/>
            <a:ext cx="4392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ATER SAFETY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5516640"/>
            <a:ext cx="6518160" cy="8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BY CLAUDIA LAY SENIOR J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770580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705800" cy="295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87280" cy="11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7480" y="0"/>
            <a:ext cx="113652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716440"/>
            <a:ext cx="1150920" cy="114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07480" y="5730840"/>
            <a:ext cx="11365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92600" y="191916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92600" y="5532480"/>
            <a:ext cx="1429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55640" y="4941720"/>
          <a:ext cx="7682040" cy="1647720"/>
        </p:xfrm>
        <a:graphic>
          <a:graphicData uri="http://schemas.openxmlformats.org/drawingml/2006/table">
            <a:tbl>
              <a:tblPr/>
              <a:tblGrid>
                <a:gridCol w="2068560"/>
                <a:gridCol w="3155760"/>
                <a:gridCol w="24577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 AFLOAT AND WA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 TO RESC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Boat"/>
          <p:cNvPicPr/>
          <p:nvPr/>
        </p:nvPicPr>
        <p:blipFill>
          <a:blip r:embed="rId5"/>
          <a:stretch/>
        </p:blipFill>
        <p:spPr>
          <a:xfrm>
            <a:off x="755640" y="5589720"/>
            <a:ext cx="1523880" cy="10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Josh Wav"/>
          <p:cNvPicPr/>
          <p:nvPr/>
        </p:nvPicPr>
        <p:blipFill>
          <a:blip r:embed="rId6"/>
          <a:stretch/>
        </p:blipFill>
        <p:spPr>
          <a:xfrm>
            <a:off x="378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River Save"/>
          <p:cNvPicPr/>
          <p:nvPr/>
        </p:nvPicPr>
        <p:blipFill>
          <a:blip r:embed="rId7"/>
          <a:stretch/>
        </p:blipFill>
        <p:spPr>
          <a:xfrm>
            <a:off x="6804000" y="5589720"/>
            <a:ext cx="1523880" cy="103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835280" y="26028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ATER SAFETY TIP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13000"/>
            <a:ext cx="8352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You must always swim between the red and yellow fl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read the signs before swimming or any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swim with a adult, never swim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ever jump or dive into shallow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aise your hand when needed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swim where there are life gu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he box jellyfish is the most dangerous jellyf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he ston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Blue ring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n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tingrays (any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lt water crocod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harks of (any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ry not to panic if you have got bitten sting or any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549360"/>
            <a:ext cx="669636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ngerous creatures at the beach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Blue-ringed Octopus"/>
          <p:cNvPicPr/>
          <p:nvPr/>
        </p:nvPicPr>
        <p:blipFill>
          <a:blip r:embed="rId1"/>
          <a:stretch/>
        </p:blipFill>
        <p:spPr>
          <a:xfrm>
            <a:off x="4211640" y="2421000"/>
            <a:ext cx="151128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ox Jellyfish"/>
          <p:cNvPicPr/>
          <p:nvPr/>
        </p:nvPicPr>
        <p:blipFill>
          <a:blip r:embed="rId2"/>
          <a:stretch/>
        </p:blipFill>
        <p:spPr>
          <a:xfrm>
            <a:off x="5796000" y="2421000"/>
            <a:ext cx="144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onus geographus"/>
          <p:cNvPicPr/>
          <p:nvPr/>
        </p:nvPicPr>
        <p:blipFill>
          <a:blip r:embed="rId3"/>
          <a:stretch/>
        </p:blipFill>
        <p:spPr>
          <a:xfrm>
            <a:off x="7308720" y="3500280"/>
            <a:ext cx="151308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Stonefish"/>
          <p:cNvPicPr/>
          <p:nvPr/>
        </p:nvPicPr>
        <p:blipFill>
          <a:blip r:embed="rId4"/>
          <a:stretch/>
        </p:blipFill>
        <p:spPr>
          <a:xfrm>
            <a:off x="5724360" y="3500280"/>
            <a:ext cx="151308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A great white shark surges from the water off the coast of Cape Town, South Africa."/>
          <p:cNvPicPr/>
          <p:nvPr/>
        </p:nvPicPr>
        <p:blipFill>
          <a:blip r:embed="rId5"/>
          <a:stretch/>
        </p:blipFill>
        <p:spPr>
          <a:xfrm>
            <a:off x="7308720" y="2421000"/>
            <a:ext cx="151308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211640" y="3500280"/>
            <a:ext cx="146520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Photo: A saltwater crocodile on a beach"/>
          <p:cNvPicPr/>
          <p:nvPr/>
        </p:nvPicPr>
        <p:blipFill>
          <a:blip r:embed="rId7"/>
          <a:stretch/>
        </p:blipFill>
        <p:spPr>
          <a:xfrm>
            <a:off x="5724360" y="4508640"/>
            <a:ext cx="1511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360" y="122724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lip on a shirt, slop on sunscreen and slap on a hat and seek some shade and slide on some sunglasses. Remember to put on 15+ sunscreen and put it on again when you come out of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3280" y="549360"/>
            <a:ext cx="6600960" cy="65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you should wear on the beach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0920" y="1124640"/>
            <a:ext cx="2652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forget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d73737"/>
                </a:solidFill>
                <a:latin typeface="Comic Sans MS"/>
              </a:rPr>
              <a:t>  </a:t>
            </a:r>
            <a:r>
              <a:rPr b="0" lang="en-US" sz="9900" spc="-1" strike="noStrike">
                <a:solidFill>
                  <a:srgbClr val="d73737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d73737"/>
                </a:solidFill>
                <a:latin typeface="Comic Sans MS"/>
              </a:rPr>
              <a:t>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un safe, slip, slop, slap and wrap on the sunnies"/>
          <p:cNvPicPr/>
          <p:nvPr/>
        </p:nvPicPr>
        <p:blipFill>
          <a:blip r:embed="rId1"/>
          <a:stretch/>
        </p:blipFill>
        <p:spPr>
          <a:xfrm>
            <a:off x="179280" y="155736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un protective 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1268280"/>
            <a:ext cx="476280" cy="46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Sunscreen"/>
          <p:cNvPicPr/>
          <p:nvPr/>
        </p:nvPicPr>
        <p:blipFill>
          <a:blip r:embed="rId4"/>
          <a:stretch/>
        </p:blipFill>
        <p:spPr>
          <a:xfrm>
            <a:off x="7812000" y="177336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Hat"/>
          <p:cNvPicPr/>
          <p:nvPr/>
        </p:nvPicPr>
        <p:blipFill>
          <a:blip r:embed="rId5"/>
          <a:stretch/>
        </p:blipFill>
        <p:spPr>
          <a:xfrm>
            <a:off x="7812000" y="227664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Shade"/>
          <p:cNvPicPr/>
          <p:nvPr/>
        </p:nvPicPr>
        <p:blipFill>
          <a:blip r:embed="rId6"/>
          <a:stretch/>
        </p:blipFill>
        <p:spPr>
          <a:xfrm>
            <a:off x="7812000" y="278136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Sunglasses"/>
          <p:cNvPicPr/>
          <p:nvPr/>
        </p:nvPicPr>
        <p:blipFill>
          <a:blip r:embed="rId7"/>
          <a:stretch/>
        </p:blipFill>
        <p:spPr>
          <a:xfrm>
            <a:off x="7812000" y="3284640"/>
            <a:ext cx="476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995480" y="1557360"/>
          <a:ext cx="5154480" cy="517680"/>
        </p:xfrm>
        <a:graphic>
          <a:graphicData uri="http://schemas.openxmlformats.org/drawingml/2006/table">
            <a:tbl>
              <a:tblPr/>
              <a:tblGrid>
                <a:gridCol w="515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004840" y="1566720"/>
          <a:ext cx="1828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Swimming&#10;Prohibited"/>
          <p:cNvPicPr/>
          <p:nvPr/>
        </p:nvPicPr>
        <p:blipFill>
          <a:blip r:embed="rId1"/>
          <a:stretch/>
        </p:blipFill>
        <p:spPr>
          <a:xfrm>
            <a:off x="250920" y="1890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shing&#10;Prohibited"/>
          <p:cNvPicPr/>
          <p:nvPr/>
        </p:nvPicPr>
        <p:blipFill>
          <a:blip r:embed="rId2"/>
          <a:stretch/>
        </p:blipFill>
        <p:spPr>
          <a:xfrm>
            <a:off x="108000" y="609300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Personal&#10;Watercraft&#10;Prohibited"/>
          <p:cNvPicPr/>
          <p:nvPr/>
        </p:nvPicPr>
        <p:blipFill>
          <a:blip r:embed="rId3"/>
          <a:stretch/>
        </p:blipFill>
        <p:spPr>
          <a:xfrm>
            <a:off x="8244000" y="1159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Surfing&#10;Prohibited"/>
          <p:cNvPicPr/>
          <p:nvPr/>
        </p:nvPicPr>
        <p:blipFill>
          <a:blip r:embed="rId4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357720" y="33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000680" y="33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643280" y="3376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286240" y="3376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Diving&#10;Prohibited"/>
          <p:cNvPicPr/>
          <p:nvPr/>
        </p:nvPicPr>
        <p:blipFill>
          <a:blip r:embed="rId9"/>
          <a:stretch/>
        </p:blipFill>
        <p:spPr>
          <a:xfrm>
            <a:off x="4284720" y="1159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Boating&#10;Prohibited"/>
          <p:cNvPicPr/>
          <p:nvPr/>
        </p:nvPicPr>
        <p:blipFill>
          <a:blip r:embed="rId10"/>
          <a:stretch/>
        </p:blipFill>
        <p:spPr>
          <a:xfrm>
            <a:off x="250920" y="2997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Bodyboards&#10;Prohibited"/>
          <p:cNvPicPr/>
          <p:nvPr/>
        </p:nvPicPr>
        <p:blipFill>
          <a:blip r:embed="rId11"/>
          <a:stretch/>
        </p:blipFill>
        <p:spPr>
          <a:xfrm>
            <a:off x="8388360" y="2924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5286240" y="35751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5286240" y="436716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765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wi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76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0000" y="7650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ersonal wate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645000"/>
            <a:ext cx="93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b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6308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6165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ur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29973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body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781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69956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get caught in a rip, do not panic. Stay calm, float with the current and raise your hand, or swim across it not against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10:39Z</dcterms:created>
  <dc:creator>david</dc:creator>
  <dc:description/>
  <dc:language>en-US</dc:language>
  <cp:lastModifiedBy>david</cp:lastModifiedBy>
  <dcterms:modified xsi:type="dcterms:W3CDTF">2009-02-18T21:06:13Z</dcterms:modified>
  <cp:revision>4</cp:revision>
  <dc:subject/>
  <dc:title>Slide 1</dc:title>
</cp:coreProperties>
</file>